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002-4EAE-4D3F-A9BC-A2CB91D8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10/pedigree-chart-autosomal-dominant.html#.VD8qRRzs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gg.com/homework-help/questions-and-answers/attached-pedigree-chart-autosomal-recessive-condition-possible-please-state-specific-genot-q18036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Autosomal_Dominant_Pedigree_Chart2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tutorvista.com/cell/chromoso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corner.com/bio2/notes_sexlinkag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wodocs.com/red-green-color-blind-tests/red-green-color-blindness-tes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10/pedigree-chart-autosomal-dominant.html#.VD8xPxzs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burchill.com/IBbiology/chapters03/00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gg.com/homework-help/questions-and-answers/attached-pedigree-chart-autosomal-recessive-condition-possible-please-state-specific-genot-q18036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0FF-B534-423E-967B-EB152A52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8E5-EE15-4B9D-92F6-E6DB41DE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1DD-D352-4DAD-8556-463CBDB7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7A7-183D-4495-AA45-66472ED6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366-1B49-450C-8A1A-29B243D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336-244E-45CA-9FD5-E44FE2C1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BC1-BDED-431D-9E6E-E188E851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D86-E304-4970-A74A-28B784D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7F2-1AA2-4C4A-9164-2863D37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0FE-C671-44B3-A291-F96AA83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2BE-1A51-4A99-8ABE-40E7A057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B91-1C2D-4110-87AD-4C716F0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050-E377-4B28-B7EB-09C51ED8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 - Sex Link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di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so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es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genotype of individual A?  Homozygous dominant or heterozyg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708200"/>
            <a:ext cx="38862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41320" y="1676520"/>
            <a:ext cx="5735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-linked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genes on the X and Y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opies of genes carried on the X chromosomes wou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m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?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genes on the Y chromos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638440"/>
            <a:ext cx="3809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11280"/>
            <a:ext cx="77724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 linkag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-lin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its can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lin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-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s that are found on other chromosomes are under the control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ex-linked tra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-green colour blin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philia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-pattern bal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38200" y="304920"/>
            <a:ext cx="6191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 - Pedigree Char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king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trace inheritance of a trait among members of a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75320" y="1981080"/>
            <a:ext cx="375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39720" y="609480"/>
            <a:ext cx="606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5:53Z</dcterms:created>
  <dc:creator>rubina khan</dc:creator>
  <dc:description/>
  <dc:language>en-US</dc:language>
  <cp:lastModifiedBy>rubina khan</cp:lastModifiedBy>
  <dcterms:modified xsi:type="dcterms:W3CDTF">2015-05-04T10:31:48Z</dcterms:modified>
  <cp:revision>95</cp:revision>
  <dc:subject/>
  <dc:title>Genetic Processes</dc:title>
</cp:coreProperties>
</file>